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D388F-152C-4BA7-B8E0-00D8C5432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65B4-93C0-4F80-AB62-EC3DB919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1803-9A6D-41BD-AA7C-6B241CB65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7D000-A8DA-4826-9B35-0AB876CD4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177CD-51E9-41BD-BBD2-FD4F51BAE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D92BD-2019-4929-96F6-8FE5C10AE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289A4-6587-44A9-8135-AD0DD937F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CBCE-3869-4E60-993A-33FCBFC42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C38AD-4D0A-4B08-99A2-8721C734F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6E98D-7658-4B33-833E-918873C34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8CF8-869B-4C3A-B8C5-5A4EF5679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72EF-E95B-4685-A75E-B60939F5E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8A9E-778C-43D9-86DC-F1432A9C1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738F-0F1F-45D6-9119-0BDEA9A1A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D96CB-3100-4043-9990-8A5B5ECD4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5F0B4-0A2A-41CF-92AF-9DADE23EB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60203-1AF6-4307-9D8E-104D69956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37F56-DCD5-45F3-AA39-5D92423F9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D072-68D4-4817-B19D-E8B6EBFD9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DB5E-A19C-406C-830F-AD682D296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0D88-B72E-4347-B364-CD6C4730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A4C6-B341-4762-A066-760B8AA2C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F5A8-4EB9-4C89-A216-94DE8B7D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2973-798C-4A22-B2ED-E977BEA30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9ED1-05F3-4626-A40B-7247ED691A7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885A-1957-49D6-9674-63167858D8C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omsky.info/articles/20051006.htm"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fgate.com/cgibin/article.cgi?f=/c/a/2005/06/05/GORE.TMP"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066680"/>
            <a:ext cx="761976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udent Awareness on Global Warming</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666880"/>
            <a:ext cx="7467840" cy="373392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Times New Roman"/>
              </a:rPr>
              <a:t>     </a:t>
            </a:r>
            <a:r>
              <a:rPr b="1" lang="en-US" sz="2000" spc="-1" strike="noStrike">
                <a:solidFill>
                  <a:srgbClr val="5b5249"/>
                </a:solidFill>
                <a:latin typeface="Times New Roman"/>
                <a:ea typeface="Times New Roman"/>
              </a:rPr>
              <a:t>Tina Tsantakis</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ducation 702.22</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Fall 2008 </a:t>
            </a:r>
            <a:endParaRPr b="0" lang="en-US" sz="20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2" name="NA01062_" descr=""/>
          <p:cNvPicPr/>
          <p:nvPr/>
        </p:nvPicPr>
        <p:blipFill>
          <a:blip r:embed="rId1"/>
          <a:stretch/>
        </p:blipFill>
        <p:spPr>
          <a:xfrm>
            <a:off x="2895480" y="4343400"/>
            <a:ext cx="434340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09480" y="1295280"/>
            <a:ext cx="2895840" cy="2362320"/>
          </a:xfrm>
          <a:prstGeom prst="rect">
            <a:avLst/>
          </a:prstGeom>
          <a:ln w="0">
            <a:noFill/>
          </a:ln>
        </p:spPr>
      </p:pic>
      <p:pic>
        <p:nvPicPr>
          <p:cNvPr id="118" name="" descr=""/>
          <p:cNvPicPr/>
          <p:nvPr/>
        </p:nvPicPr>
        <p:blipFill>
          <a:blip r:embed="rId2"/>
          <a:stretch/>
        </p:blipFill>
        <p:spPr>
          <a:xfrm>
            <a:off x="609480" y="4419720"/>
            <a:ext cx="2895840" cy="2286000"/>
          </a:xfrm>
          <a:prstGeom prst="rect">
            <a:avLst/>
          </a:prstGeom>
          <a:ln w="0">
            <a:noFill/>
          </a:ln>
        </p:spPr>
      </p:pic>
      <p:pic>
        <p:nvPicPr>
          <p:cNvPr id="119" name="" descr=""/>
          <p:cNvPicPr/>
          <p:nvPr/>
        </p:nvPicPr>
        <p:blipFill>
          <a:blip r:embed="rId3"/>
          <a:stretch/>
        </p:blipFill>
        <p:spPr>
          <a:xfrm>
            <a:off x="4343400" y="4419720"/>
            <a:ext cx="2819520" cy="2286000"/>
          </a:xfrm>
          <a:prstGeom prst="rect">
            <a:avLst/>
          </a:prstGeom>
          <a:ln w="0">
            <a:noFill/>
          </a:ln>
        </p:spPr>
      </p:pic>
      <p:pic>
        <p:nvPicPr>
          <p:cNvPr id="120" name="" descr=""/>
          <p:cNvPicPr/>
          <p:nvPr/>
        </p:nvPicPr>
        <p:blipFill>
          <a:blip r:embed="rId4"/>
          <a:stretch/>
        </p:blipFill>
        <p:spPr>
          <a:xfrm>
            <a:off x="4343400" y="1295280"/>
            <a:ext cx="2819520" cy="2362320"/>
          </a:xfrm>
          <a:prstGeom prst="rect">
            <a:avLst/>
          </a:prstGeom>
          <a:ln w="0">
            <a:noFill/>
          </a:ln>
        </p:spPr>
      </p:pic>
      <p:pic>
        <p:nvPicPr>
          <p:cNvPr id="121" name="NA00864_" descr=""/>
          <p:cNvPicPr/>
          <p:nvPr/>
        </p:nvPicPr>
        <p:blipFill>
          <a:blip r:embed="rId5"/>
          <a:stretch/>
        </p:blipFill>
        <p:spPr>
          <a:xfrm>
            <a:off x="7543800" y="5562720"/>
            <a:ext cx="1427040" cy="1128600"/>
          </a:xfrm>
          <a:prstGeom prst="rect">
            <a:avLst/>
          </a:prstGeom>
          <a:ln w="0">
            <a:noFill/>
          </a:ln>
        </p:spPr>
      </p:pic>
      <p:sp>
        <p:nvSpPr>
          <p:cNvPr id="122" name=""/>
          <p:cNvSpPr/>
          <p:nvPr/>
        </p:nvSpPr>
        <p:spPr>
          <a:xfrm>
            <a:off x="3352680" y="3352680"/>
            <a:ext cx="2165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3" name=""/>
          <p:cNvSpPr/>
          <p:nvPr/>
        </p:nvSpPr>
        <p:spPr>
          <a:xfrm>
            <a:off x="2362320" y="83808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
          <p:cNvSpPr/>
          <p:nvPr/>
        </p:nvSpPr>
        <p:spPr>
          <a:xfrm>
            <a:off x="2971800" y="80316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Causes of global warming</a:t>
            </a:r>
            <a:endParaRPr b="0" lang="en-US" sz="2400" spc="-1" strike="noStrike">
              <a:solidFill>
                <a:srgbClr val="5b5249"/>
              </a:solidFill>
              <a:latin typeface="Times New Roman"/>
            </a:endParaRPr>
          </a:p>
        </p:txBody>
      </p:sp>
      <p:sp>
        <p:nvSpPr>
          <p:cNvPr id="125" name=""/>
          <p:cNvSpPr/>
          <p:nvPr/>
        </p:nvSpPr>
        <p:spPr>
          <a:xfrm>
            <a:off x="2666880" y="3809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Effects of global warm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of Contents</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925040" cy="4756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oductio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Problem</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Review of Related Literature</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Hypothesis</a:t>
            </a:r>
            <a:endParaRPr b="0" lang="en-US" sz="3200" spc="-1" strike="noStrike">
              <a:solidFill>
                <a:srgbClr val="5b5249"/>
              </a:solidFill>
              <a:latin typeface="Times New Roman"/>
            </a:endParaRPr>
          </a:p>
        </p:txBody>
      </p:sp>
      <p:pic>
        <p:nvPicPr>
          <p:cNvPr id="95"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Problem</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837720" y="2253960"/>
            <a:ext cx="8153640" cy="4451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purpose of this study is to investigate student awarenes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n global warming and to find out how much knowledge</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ildren have on global warming.  Every year our earth i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eing effected by global warming and is creating a dangerou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uture for our children.  Studies show that children have some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wareness but do very little to help the earth.  Technology and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mplementing a recycling program in classrooms are very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seful tools that will help children become more aware and caring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or the earth.</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8"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Review of Related Literature</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0" name="PlaceHolder 2"/>
          <p:cNvSpPr>
            <a:spLocks noGrp="1"/>
          </p:cNvSpPr>
          <p:nvPr>
            <p:ph/>
          </p:nvPr>
        </p:nvSpPr>
        <p:spPr>
          <a:xfrm>
            <a:off x="1066320" y="2101320"/>
            <a:ext cx="8077320" cy="460404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lobal warming is a very serious issue and it’s not being addressed as much as it should be.  </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Noam Chomsky and Al Gore believe that global warming are major issues that we need to be more concerned with.</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eorge Bush pushes aside the issues of global warming.</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Pictures showing causes and effects of global warming on earth.</a:t>
            </a:r>
            <a:endParaRPr b="0" lang="en-US" sz="2600" spc="-1" strike="noStrike">
              <a:solidFill>
                <a:srgbClr val="5b5249"/>
              </a:solidFill>
              <a:latin typeface="Times New Roman"/>
            </a:endParaRPr>
          </a:p>
        </p:txBody>
      </p:sp>
      <p:pic>
        <p:nvPicPr>
          <p:cNvPr id="101"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1371600"/>
            <a:ext cx="7925040" cy="54864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oam Chomsky</a:t>
            </a:r>
            <a:r>
              <a:rPr b="0" lang="en-US" sz="2000" spc="-1" strike="noStrike">
                <a:solidFill>
                  <a:srgbClr val="5b5249"/>
                </a:solidFill>
                <a:latin typeface="Times New Roman"/>
              </a:rPr>
              <a:t> b</a:t>
            </a:r>
            <a:r>
              <a:rPr b="0" lang="en-US" sz="2000" spc="-1" strike="noStrike">
                <a:solidFill>
                  <a:srgbClr val="5b5249"/>
                </a:solidFill>
                <a:latin typeface="Times New Roman"/>
                <a:ea typeface="Times New Roman"/>
              </a:rPr>
              <a:t>elieves global warming is a major issue and that it’s being ignored. Chomsky states (2005), “Design raises the question whether it is intelligent to disregard scientific evidence about matters of supreme importance to the nation and world — like global warming.” </a:t>
            </a:r>
            <a:endParaRPr b="0" lang="en-US" sz="20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Chomsky, Noam. (2005.) Intelligent Design.</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Retrieved from </a:t>
            </a:r>
            <a:r>
              <a:rPr b="0" lang="en-US" sz="1400" spc="-1" strike="noStrike" u="sng">
                <a:solidFill>
                  <a:srgbClr val="b0ae6a"/>
                </a:solidFill>
                <a:uFillTx/>
                <a:latin typeface="Times New Roman"/>
                <a:ea typeface="Times New Roman"/>
                <a:hlinkClick r:id="rId1"/>
              </a:rPr>
              <a:t>http://www.chomsky.info/articles/20051006.htm</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omsky explains that Bush’s administration pushes aside scientific inquiry on global warming. He believes that we can possibly face catastrophic damage if global warming issues continue to be ignored. In the summer of 2005, several nations including the United States, China, India and Brazil took action to attend to global warming issues. Chomsky emphasizes that the government needs to take action and acknowledge the potential harm that is facing u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4"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1371240"/>
            <a:ext cx="7848720" cy="53341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 Gore is very interested in saving our planet.  He </a:t>
            </a:r>
            <a:r>
              <a:rPr b="0" lang="en-US" sz="2000" spc="-1" strike="noStrike">
                <a:solidFill>
                  <a:srgbClr val="5b5249"/>
                </a:solidFill>
                <a:latin typeface="Times New Roman"/>
                <a:ea typeface="Times New Roman"/>
              </a:rPr>
              <a:t>created a campaign to raise awareness and to address global warming issues.</a:t>
            </a:r>
            <a:r>
              <a:rPr b="0" lang="en-US" sz="2000" spc="-1" strike="noStrike">
                <a:solidFill>
                  <a:srgbClr val="5b5249"/>
                </a:solidFill>
                <a:latin typeface="Times New Roman"/>
              </a:rPr>
              <a:t>  </a:t>
            </a:r>
            <a:r>
              <a:rPr b="0" lang="en-US" sz="2000" spc="-1" strike="noStrike">
                <a:solidFill>
                  <a:srgbClr val="5b5249"/>
                </a:solidFill>
                <a:latin typeface="Times New Roman"/>
                <a:ea typeface="Times New Roman"/>
              </a:rPr>
              <a:t>Al Gore is concerned about the climate change, rising levels of carbon dioxide in the atmosphere and the rising sea level. Al Gore states (2005), “We can't ignore it. We can't put our heads in the sand. We are witnessing a collision between our civilization and the Earth.”</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1400" spc="-1" strike="noStrike">
                <a:solidFill>
                  <a:srgbClr val="5b5249"/>
                </a:solidFill>
                <a:latin typeface="Times New Roman"/>
                <a:ea typeface="Times New Roman"/>
              </a:rPr>
              <a:t>Vega, M., Cecilia.(2005.) Global Warming Called An Emergency.</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Retrieved from </a:t>
            </a:r>
            <a:r>
              <a:rPr b="0" lang="en-US" sz="1400" spc="-1" strike="noStrike" u="sng">
                <a:solidFill>
                  <a:srgbClr val="b0ae6a"/>
                </a:solidFill>
                <a:uFillTx/>
                <a:latin typeface="Times New Roman"/>
                <a:ea typeface="Times New Roman"/>
                <a:hlinkClick r:id="rId1"/>
              </a:rPr>
              <a:t>http://www.sfgate.com/cgibin/article.cgi?f=/c/a/2005/06/05/GORE.TMP</a:t>
            </a:r>
            <a:r>
              <a:rPr b="0" lang="en-US" sz="1400" spc="-1" strike="noStrike">
                <a:solidFill>
                  <a:srgbClr val="5b5249"/>
                </a:solidFill>
                <a:latin typeface="Times New Roman"/>
              </a:rPr>
              <a:t>)</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orge Bush is an individual who does not care to acknowledge the issues of global warming.  He clearly ignores the issues and concerns of global warming and has not developed a plan to help save our plane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7"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9" name="PlaceHolder 2"/>
          <p:cNvSpPr>
            <a:spLocks noGrp="1"/>
          </p:cNvSpPr>
          <p:nvPr>
            <p:ph/>
          </p:nvPr>
        </p:nvSpPr>
        <p:spPr>
          <a:xfrm>
            <a:off x="838080" y="1980720"/>
            <a:ext cx="8305920" cy="4876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omputers and technology are popular and are a part of new instructional methodologies used in today’s classrooms.</a:t>
            </a:r>
            <a:r>
              <a:rPr b="0" lang="en-US" sz="2000" spc="-1" strike="noStrike">
                <a:solidFill>
                  <a:srgbClr val="5b5249"/>
                </a:solidFill>
                <a:latin typeface="Times New Roman"/>
              </a:rPr>
              <a:t> Children can explore and research on the internet to find out more on global warming.  The students can research and find out ways to help save our planet.  The negative effect of using computers in the classroom is </a:t>
            </a:r>
            <a:r>
              <a:rPr b="0" lang="en-US" sz="2000" spc="-1" strike="noStrike">
                <a:solidFill>
                  <a:srgbClr val="5b5249"/>
                </a:solidFill>
                <a:latin typeface="Times New Roman"/>
                <a:ea typeface="Times New Roman"/>
              </a:rPr>
              <a:t>when children are taken away from group activities and focus on their computers instead of the lesson or assignment the other students are involved in.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0"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2" name="PlaceHolder 2"/>
          <p:cNvSpPr>
            <a:spLocks noGrp="1"/>
          </p:cNvSpPr>
          <p:nvPr>
            <p:ph/>
          </p:nvPr>
        </p:nvSpPr>
        <p:spPr>
          <a:xfrm>
            <a:off x="990360" y="2101320"/>
            <a:ext cx="8001000" cy="460404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cycling is another methodology being introduced into classrooms.  This year the school I work in started a recycling program.  Recycling is an important key to saving our planet and needs to become more widespread.  The negative effect of a recycling program is infestation. </a:t>
            </a:r>
            <a:r>
              <a:rPr b="0" lang="en-US" sz="2000" spc="-1" strike="noStrike">
                <a:solidFill>
                  <a:srgbClr val="5b5249"/>
                </a:solidFill>
                <a:latin typeface="Times New Roman"/>
                <a:ea typeface="Times New Roman"/>
              </a:rPr>
              <a:t>If recyclable products are not disposed quickly, it can create a very unwelcoming and hazardous environment.</a:t>
            </a:r>
            <a:endParaRPr b="0" lang="en-US" sz="2000" spc="-1" strike="noStrike">
              <a:solidFill>
                <a:srgbClr val="5b5249"/>
              </a:solidFill>
              <a:latin typeface="Times New Roman"/>
            </a:endParaRPr>
          </a:p>
        </p:txBody>
      </p:sp>
      <p:pic>
        <p:nvPicPr>
          <p:cNvPr id="113"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Hypothesis</a:t>
            </a: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1599840"/>
            <a:ext cx="792504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1:  Integrating technology and recycling programs in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increase student awareness on global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arming and will therefore help save our planet.</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2:  Not integrating technology or recycling programs into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cause further damage to our planet and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ill steer children away from the environmental iss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that face them in the future.</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05:58Z</dcterms:created>
  <dc:creator>Internet</dc:creator>
  <dc:description/>
  <dc:language>en-US</dc:language>
  <cp:lastModifiedBy>ROXXSTAR</cp:lastModifiedBy>
  <dcterms:modified xsi:type="dcterms:W3CDTF">2008-10-16T07:40:27Z</dcterms:modified>
  <cp:revision>55</cp:revision>
  <dc:subject/>
  <dc:title>Student Awareness on Global Warming </dc:title>
</cp:coreProperties>
</file>